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komplexgebunde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ziu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onisiert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alziu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4520" y="549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kalz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plexgebunde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ziu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3080" y="549360"/>
            <a:ext cx="53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z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komplexgebundenes Kalziu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3"/>
            <a:endCxn id="10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onisiertes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ziu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vitaminose 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arathormon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PTHrP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3"/>
            <a:endCxn id="111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4" name=""/>
          <p:cNvCxnSpPr>
            <a:stCxn id="110" idx="3"/>
            <a:endCxn id="112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6012000" y="1494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Knochenumbau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kalz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nderer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0" idx="3"/>
            <a:endCxn id="115" idx="1"/>
          </p:cNvCxnSpPr>
          <p:nvPr/>
        </p:nvCxnSpPr>
        <p:spPr>
          <a:xfrm flipV="1">
            <a:off x="3313080" y="2055600"/>
            <a:ext cx="2689920" cy="2026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0" idx="3"/>
            <a:endCxn id="116" idx="1"/>
          </p:cNvCxnSpPr>
          <p:nvPr/>
        </p:nvCxnSpPr>
        <p:spPr>
          <a:xfrm>
            <a:off x="3312720" y="4081320"/>
            <a:ext cx="2699640" cy="2028240"/>
          </a:xfrm>
          <a:prstGeom prst="bentConnector3">
            <a:avLst>
              <a:gd name="adj1" fmla="val 49933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974880" y="549360"/>
            <a:ext cx="40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yperkalz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onisiertes Kalzium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240" y="6396840"/>
            <a:ext cx="36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PTHrP = Parathormon-related-Pept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chenumbau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3080" y="549360"/>
            <a:ext cx="61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z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onisiertes Kalzium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Knochenumbau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3"/>
            <a:endCxn id="12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Wachstu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steosark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vitaminose 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4880" y="549360"/>
            <a:ext cx="63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z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onisiertes Kalzium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Hypervitaminose 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3"/>
            <a:endCxn id="13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itamin-D-Intoxikation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granulomatöse 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system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ykos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thormon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THrP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arathorm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PTHrP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3" idx="3"/>
            <a:endCxn id="13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7" name=""/>
          <p:cNvCxnSpPr>
            <a:stCxn id="133" idx="3"/>
            <a:endCxn id="13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1031760" y="549360"/>
            <a:ext cx="65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kalz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onisiertes Kalzium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Parathormon/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PTHrP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5240" y="6396840"/>
            <a:ext cx="36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PTHrP = Parathormon-related-Pept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thorm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81640" y="549360"/>
            <a:ext cx="70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z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ionisiertes Kalzium ↑ &gt; Parathormon/PTHrP ↑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arathormo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1" idx="3"/>
            <a:endCxn id="144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imär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parathyreoid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5240" y="6396840"/>
            <a:ext cx="36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PTHrP = Parathormon-related-Pept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THrP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6640" y="549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kalz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ionisiertes Kalzium ↑ &gt; Parathormon/PTHrP ↑ &gt; PTHrP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3"/>
            <a:endCxn id="15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eoplas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v. a. 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nalbeutelkarzinom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40" y="6153480"/>
            <a:ext cx="36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PTHrP = Parathormon-related-Pept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z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erer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0240" y="549360"/>
            <a:ext cx="80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kalz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ionisiertes Kalzium ↑ &gt; Hyperkalzämie anderer Ursa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3"/>
            <a:endCxn id="15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diopath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kalzämie (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oadrenokortizism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6:18:22Z</dcterms:modified>
  <cp:revision>328</cp:revision>
  <dc:subject/>
  <dc:title>Vorstellung einer Neuheit</dc:title>
</cp:coreProperties>
</file>